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2E019-E79A-4ECA-AFD0-BFEB5196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91203-7243-4C7B-BF17-104168F4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CC0F-1FE2-403F-B194-68E02125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0DB73-02F8-4F2D-A237-A0532C35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20AD-79F6-4B31-B117-FE349B0A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62FB-64CD-40B0-BAF0-C2B419D4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43F9-FDAA-48E9-8F47-EBB3B9F4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3DB7-867A-4F7B-83BE-D30723A4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A283-D891-40F1-84A0-34F95792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64DB-EC93-438E-87BE-BD1B7148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97FA-70F2-4C83-A4BE-8998E141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0C70D-488C-4682-8DE2-FF729284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C3D9-A751-4F1C-A8F3-E5DF3B4B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E607-8DAC-44D1-8E9A-C020434F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A73F-3199-403F-B82D-D94039CD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F402-7FED-4C5E-8F95-3ABE035F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D29E-17AC-49AF-818F-E6F0488E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6D9BA-3748-4019-8661-EF8528A0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10429-F2BB-45AD-88D5-D2AE9A9D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58C84-7A69-4BBD-905F-BF03C5BD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3FAD8-244B-4908-87DE-49124663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6CDE0-9D6C-4F6B-A26F-8DE236E1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F2AC8-2FD8-42E6-BAE5-01E8C1D7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488C9-B311-4B9A-9663-F5631641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00F1-AB61-4560-9D07-4C9A5F65813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CAE3-ABF8-4067-9B13-7E222991C1E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7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12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Сей семето всег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с вяра всякъд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вечер, й на ранин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оброто семе се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Това ли ще успе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ли пък онов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 знаеш ти то как раст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крито там в пръст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75032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Ще порастат тогаз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тези семен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тебло изпърво, после кла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й-сетне и зърн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75032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Не бой се ти - не 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езплоден трудът т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лодът му ще се събер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небесни житниц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36:01Z</dcterms:modified>
  <cp:revision>164</cp:revision>
  <dc:subject/>
  <dc:title>Slide 1</dc:title>
</cp:coreProperties>
</file>